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975E-D459-4745-AA9B-6D6A701AA6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ave this slide up 30 minutes before the session star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uggest you make a point of welcoming people as they enter the room and encouraging them to do the audi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hing worse than silence.  A newbie is left wondering what the hell is going on.  Are they at the right place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68BF-5898-44F7-A2BF-8D3FB88203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 really don’t dwell on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F6E3-9E44-4292-B1DF-68F2FA53E3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ake time to explain this, in particular the 4 items coloured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et people to give you a smiley face. And/or raise their h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lso to type something in the chat window.  Practice is ideal as they can see what happen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36EF-8652-4BB2-B9BA-EBA96D5B34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30AC-572C-4533-930C-13C24796E53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MPORTANT: Add the pins and icons to this graphic when in BbC.  See the notes about prparing a BbC s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o NOT try to add them in powerpoint as users will not be able to mov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o lets show some action.  Ask our remote particip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o drag a pin to where they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o some scribbling or typing on the white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rag graph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nd add a greeting in the chat wind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7B9C-50E5-4B83-A27A-73AAFABFDC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Quick clipart resour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sert tab, Clipart.  Use the search facilities, just keep the search si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sert tab,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oogle Images search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snipping tool in Windows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E70F-2D0A-4BB4-972E-CD63AF8F4A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creen dumps are easily done. In Windows 7 use the snipping tool in Access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therwise do an App share to demo th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You should always stive to have variety in your presentation. Slide after slide is called ‘death by powerpoint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 app sharing, polls, whiteboard collaboration, web tour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9202-486D-445C-9B21-24C9EAD11A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final sl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fear ques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f you don’t know the answer then say so. NEVER try to BS or fob off. Ask if others might k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B205-299C-42A5-BBD6-B06D4BDDCF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 if you need to explain the whiteboard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FF2E-1E45-405E-BD66-5F47D161E8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5CF-62BC-4458-B59E-71134BEB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3C9-C63D-4B01-85D6-7C48CD18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69417-0C62-4667-90A8-9589404E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D6D3F-D86F-40DF-9402-82086557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9AD3F-949C-45E3-9EEF-C3FA7B18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7F318-FB44-4AB2-8F57-A69FEBD4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C2876-1C59-4C66-9E4F-6AA72E81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E58D3-C7D8-4032-96EA-C2523619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5D54C-233D-42FA-9B45-62DF1108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ABE53-CF08-4532-B67E-A0189F28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BC3C7-8116-4BBB-9D2D-828B21FC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EC202-D814-4FE3-9FB4-66E35077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2F0-2F1E-40F5-9314-725E04F9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AFC3B-8D94-430A-89A5-58C7026F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8B11E-31E6-4BE3-A89A-E41916B9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16E57-578F-4ADE-A15A-BC9C140A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1F7A9-F69B-4834-B3B5-A096030C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114A3-00A4-4A1D-9327-8DB4AEBF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68897-7337-43B0-A673-A5B5BB1E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038F5-8D9B-4172-9AA2-25FCA087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D9836-8E0F-407A-9A99-B42C6DA1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2CAFB-FF44-4E4F-AF73-62513551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FE78D-60D4-4EF7-9FBD-D855F7CB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275-A279-4E0E-9C10-01D0C9D2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45530-3083-4A4D-8DF9-B74157EC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0EEBF-AF86-4667-BD8B-97AD5914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C3F1B-D578-40AB-823F-7D4A7718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C71DF-E076-49E4-BEFC-5DBD63A5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D2C6E-E4CC-43EE-B497-8F61ED4D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7AEE5-F35E-43B9-B906-11DD6BC2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8A263-7946-4049-8DE4-B8892310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92925-51B6-4508-9253-A6F1AB79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57007-1725-4C2A-8D11-02927DE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1DE09-D437-4327-8EF9-4E3F4BBC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CD95-CAA1-4A38-A9B3-6FFF2D8C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45F1B-12FA-4308-836F-B3EAAB40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5603D-C2FB-481D-8F2F-125F5C2E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5E3AE-1246-4CD3-BD0F-D24C3F98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BE225-A231-49C9-B8E0-4A747F70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CC7E4-4470-4EC2-833D-E18FB8C4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F66D5-86E9-47F7-839C-636AD0DD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8F034-FF5B-4D3A-8D3F-1EAF589D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03B28-1C6A-4ED5-8F6F-A16EE2C7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A1BB5-74CB-46E7-9838-81233A02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F9D8F-F7B9-4BBE-8449-62B20139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0C89-9380-46D8-88AC-7496FA98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7C4A5-A6AB-4AD5-826C-921F632D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B22CB-7F4E-4001-A4B2-004DD21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3F4A0-7512-4D63-A22A-A45422A5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E6DA4-BD43-4801-A1B2-4A4D9A36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287D2-999A-4A95-A27E-0CAC5856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1071-819A-4876-ACDC-F0842710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B7CD-5258-4500-B0E7-124F61D5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ABED-5801-4743-8BF5-34751122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8EE6-8BD4-4965-A537-3D033FF3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B487-6A45-4676-ABA2-7DA278D9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13D-DE7A-42B9-9D34-74496CB7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5E1B-E55A-44F7-86F6-643C5E2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BE4D-3CE0-4AC0-BEDF-DAFE4BC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56A7-6AC6-4D17-A77F-C26E38C5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A747-DB42-425C-BE2E-E96C214A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FA40-7466-4E6E-A533-E902DB1D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7581-7938-4236-AA91-38639801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32D8-FCF5-445D-9A08-FF260EFA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643F-690B-4AF7-84C9-E194E325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F96B6-098A-418D-9006-484C11C7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1DE3-3EA7-4601-BBEF-390A70B8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D31-47D6-4ECE-976F-B70AEF15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6541-3166-4760-85BB-1FF5B00E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E448-41E0-4E00-971A-E3B44235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B8517-6741-41DF-B3F1-1DD971EA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4A52-E0D2-45EF-88DD-4ADD7A2D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C2C2-CB59-4F1F-BBBC-07D94851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46D4-CD5E-45B3-8114-FDE35675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25BD-A1CD-4BF0-B540-3B734B00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61AE-D881-4A58-9634-9731C7BB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C8CD4-36EB-44FB-A712-65AD221A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8747C-DD4D-45E8-9A62-70C7F6C1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F7F-92AE-4B9D-AFC9-3EFFBAFE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8CF1-F997-4286-86F5-DC2D059D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48F3-58C0-4757-A3C4-31E07633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E7A0-C811-459C-A0EA-9DCCDC28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A893-2128-49FF-9CC3-66C39975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FEA0-BE56-47A8-B39A-77838488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D5AF-8F16-4DB1-8292-49D714B9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66762-7936-4DF1-80B4-6DF37388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1EAD2-5E10-4042-AD18-CE035577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3F5E-033A-4946-B302-C93E926C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F54F4-ABAE-42FC-BF7D-CB95DB91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F2F-042D-4897-BF6A-7334B0C1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8D96E-2858-4CFA-93E2-E67660AB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AB3AA-06D6-486D-A09E-4C836041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97DCE-9492-4BBC-AB27-7363286C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8BDF7-3C3B-43B4-95F6-6AB5761C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6776-DDEC-4225-88C9-BBFBE6E8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FBCE1-A247-4CAD-A9C5-225BBE15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C3B0B-3165-433A-AF7B-FE1BC476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B0375-05A6-43C5-9C4D-872F543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A1E7B-4E93-4330-A2E5-1397790B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21785-1EA6-4F35-B3D8-79C2D16B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A07-02F9-4B12-8F84-EBE0581F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AD193-EE4E-4FF2-AD63-E000A472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6A6AF-B5DD-4F71-82E5-F8362E3C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8525F-E4F0-4947-8546-BC11F318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86C98-8DA8-4276-9EFE-98E8D386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05111-17CD-4074-AC4C-3A6C1FB4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92C9-042A-41DC-8A61-740375C8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7192C-A00A-4C80-98E2-DBA506DC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91920-2C53-4A87-8149-680A8002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364F9-FEA0-40A6-9DD8-183C38E9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C680-0111-4E1C-A4CC-3445C3D4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52F-9D63-41A4-8C6A-1E589A79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A7976-526D-41C1-A7AE-47EF4132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A6609-3944-4CDD-BC5F-98FDA137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888D2-C9A4-492A-8DA1-36207A41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43C65-9DBC-404B-B75C-195559C8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B6869-1209-4F84-BEBC-B27A30F4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A65C-0542-4796-BEAD-C33C7115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B799A-2392-4D6B-B7FC-F12BA26B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9B712-49D8-4274-B60C-ECBF144B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6FA62-24AD-4625-A5E0-2E51476C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9EAAF-2344-492D-A264-707D2065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152-2BBE-49EC-A6BA-71BE94FF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C0605-1656-402B-8D2C-D47A93A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64DAC-ED22-4DD5-953A-82801D2A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D4A12-BFA8-4748-A69B-EE9B2BFB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730DF-689D-4755-9A87-2C7CA2B6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2500B-1999-405F-8627-0DBB6745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EE05F-6259-4658-8829-03FFC69D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92177-AA6A-45AA-AD90-CC0BE1DC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C8AA6-398E-45A2-A7B0-C1E80ADA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9D08D-A985-4777-905A-18AF20F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3E9FD-1A0B-43FF-933E-D78AF4ED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B96-73A5-4831-A4B8-43900EF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21C48-C3CA-4458-9D80-727CD6AC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43038-0701-4C43-8E47-4EA6AB9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32CBD-4ED6-4561-AFDE-DCD07B67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92073-7F1E-4E77-B1C3-094586FB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554EC-7FA5-451A-B48A-2D73D215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CFBAF-8E22-4951-B472-F4B4D11A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20192-400F-442C-BFCA-5CE35F6A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39DD9-CA28-4F13-A513-827AFEF1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E7342-F4F4-446D-A6AC-0660C4C4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88256-ABE0-48FD-B423-40B580F8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1891-EFDA-4C74-8DA3-ED8F8AB8ED2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9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E34B-932E-4319-BAE9-766678E9AB5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7B4C-E007-400B-9EC6-8AE05FABD7E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7B29-320C-4399-AC98-599E07EEF39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6152-0178-4357-AE64-2C978E65773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928C-BDCC-4C24-86A5-0D50F3B8A4E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5A23-4EB0-4E58-9A43-1C83E573032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FEE6-1ABD-4053-A89C-AF1791F7450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87BC-17DA-47A3-816E-1A5FD58F75B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6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8942-D351-4993-9C98-2C615B1A5CE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6EA3-4DF7-4E9B-B0E2-9309F0C2CCC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uswellbrook Seniors Computer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2657-AD7F-449B-B7D9-1E3CB692584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2560" y="110880"/>
            <a:ext cx="779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300" spc="-1" strike="noStrike">
                <a:solidFill>
                  <a:srgbClr val="572314"/>
                </a:solidFill>
                <a:latin typeface="Gill Sans MT"/>
              </a:rPr>
              <a:t>Before We Start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00000" y="119700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Gill Sans MT"/>
              </a:rPr>
              <a:t>Check your Audio:</a:t>
            </a:r>
            <a:br>
              <a:rPr sz="2400"/>
            </a:b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or menu: Tools / Audio/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Audio Setup Wizard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Gill Sans MT"/>
              </a:rPr>
              <a:t>Problems? </a:t>
            </a: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Check list for audi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Are you plugged in the right way? And in the right hole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Check Audio is NOT muted (bottom right corner of windows)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s any in-line switch on your headphones OK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s any in-line volume control OK?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Gill Sans MT"/>
              </a:rPr>
              <a:t>Know the Microphone butt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Your Mike is </a:t>
            </a: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OFF </a:t>
            </a: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                      Your Mike is </a:t>
            </a: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Picture 12" descr=""/>
          <p:cNvPicPr/>
          <p:nvPr/>
        </p:nvPicPr>
        <p:blipFill>
          <a:blip r:embed="rId1"/>
          <a:stretch/>
        </p:blipFill>
        <p:spPr>
          <a:xfrm>
            <a:off x="4255920" y="1052640"/>
            <a:ext cx="4241880" cy="1512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3" descr=""/>
          <p:cNvPicPr/>
          <p:nvPr/>
        </p:nvPicPr>
        <p:blipFill>
          <a:blip r:embed="rId2"/>
          <a:stretch/>
        </p:blipFill>
        <p:spPr>
          <a:xfrm>
            <a:off x="1150920" y="5749920"/>
            <a:ext cx="2612880" cy="863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4" descr=""/>
          <p:cNvPicPr/>
          <p:nvPr/>
        </p:nvPicPr>
        <p:blipFill>
          <a:blip r:embed="rId3"/>
          <a:stretch/>
        </p:blipFill>
        <p:spPr>
          <a:xfrm>
            <a:off x="4967280" y="5753160"/>
            <a:ext cx="2643120" cy="814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5" descr=""/>
          <p:cNvPicPr/>
          <p:nvPr/>
        </p:nvPicPr>
        <p:blipFill>
          <a:blip r:embed="rId4"/>
          <a:stretch/>
        </p:blipFill>
        <p:spPr>
          <a:xfrm>
            <a:off x="7164360" y="115920"/>
            <a:ext cx="1700280" cy="674640"/>
          </a:xfrm>
          <a:prstGeom prst="rect">
            <a:avLst/>
          </a:prstGeom>
          <a:ln w="0">
            <a:noFill/>
          </a:ln>
        </p:spPr>
      </p:pic>
      <p:sp>
        <p:nvSpPr>
          <p:cNvPr id="571" name="Oval 15"/>
          <p:cNvSpPr/>
          <p:nvPr/>
        </p:nvSpPr>
        <p:spPr>
          <a:xfrm>
            <a:off x="6227640" y="5792760"/>
            <a:ext cx="743040" cy="73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Oval 25"/>
          <p:cNvSpPr/>
          <p:nvPr/>
        </p:nvSpPr>
        <p:spPr>
          <a:xfrm>
            <a:off x="7451640" y="1030320"/>
            <a:ext cx="743040" cy="73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573" name="Straight Arrow Connector 27"/>
          <p:cNvCxnSpPr/>
          <p:nvPr/>
        </p:nvCxnSpPr>
        <p:spPr>
          <a:xfrm flipV="1">
            <a:off x="4067280" y="1483920"/>
            <a:ext cx="3242160" cy="144720"/>
          </a:xfrm>
          <a:prstGeom prst="straightConnector1">
            <a:avLst/>
          </a:prstGeom>
          <a:ln w="38160">
            <a:solidFill>
              <a:srgbClr val="262626"/>
            </a:solidFill>
            <a:prstDash val="lg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920" y="1379160"/>
            <a:ext cx="74073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2314"/>
                </a:solidFill>
                <a:latin typeface="Gill Sans MT"/>
              </a:rPr>
              <a:t>The Name</a:t>
            </a:r>
            <a:br>
              <a:rPr sz="4400"/>
            </a:br>
            <a:r>
              <a:rPr b="0" lang="en-AU" sz="4400" spc="-1" strike="noStrike">
                <a:solidFill>
                  <a:srgbClr val="572314"/>
                </a:solidFill>
                <a:latin typeface="Gill Sans MT"/>
              </a:rPr>
              <a:t>of your</a:t>
            </a:r>
            <a:br>
              <a:rPr sz="4400"/>
            </a:br>
            <a:r>
              <a:rPr b="0" lang="en-AU" sz="4400" spc="-1" strike="noStrike">
                <a:solidFill>
                  <a:srgbClr val="572314"/>
                </a:solidFill>
                <a:latin typeface="Gill Sans MT"/>
              </a:rPr>
              <a:t>Presentation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095120" y="4221000"/>
            <a:ext cx="7407000" cy="109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20e04"/>
                </a:solidFill>
                <a:latin typeface="Gill Sans MT"/>
              </a:rPr>
              <a:t>Your Na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20e04"/>
                </a:solidFill>
                <a:latin typeface="Gill Sans MT"/>
              </a:rPr>
              <a:t>Your organisation,  role and / or kios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" name="Group 18"/>
          <p:cNvGrpSpPr/>
          <p:nvPr/>
        </p:nvGrpSpPr>
        <p:grpSpPr>
          <a:xfrm>
            <a:off x="1116000" y="5318280"/>
            <a:ext cx="7846920" cy="1539720"/>
            <a:chOff x="1116000" y="5318280"/>
            <a:chExt cx="7846920" cy="1539720"/>
          </a:xfrm>
        </p:grpSpPr>
        <p:pic>
          <p:nvPicPr>
            <p:cNvPr id="577" name="Picture 17" descr="consortium logos.jpg"/>
            <p:cNvPicPr/>
            <p:nvPr/>
          </p:nvPicPr>
          <p:blipFill>
            <a:blip r:embed="rId1"/>
            <a:srcRect l="4435" t="0" r="0" b="0"/>
            <a:stretch/>
          </p:blipFill>
          <p:spPr>
            <a:xfrm>
              <a:off x="1116000" y="5318280"/>
              <a:ext cx="433368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5" descr="M:\MktgPR\Andrea Teague\BFS Artwork\bfs_logo.JPG"/>
            <p:cNvPicPr/>
            <p:nvPr/>
          </p:nvPicPr>
          <p:blipFill>
            <a:blip r:embed="rId2"/>
            <a:stretch/>
          </p:blipFill>
          <p:spPr>
            <a:xfrm>
              <a:off x="6481440" y="5831640"/>
              <a:ext cx="2481480" cy="76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9" name="Picture 9" descr="BBFS-Banner.JPG"/>
          <p:cNvPicPr/>
          <p:nvPr/>
        </p:nvPicPr>
        <p:blipFill>
          <a:blip r:embed="rId3"/>
          <a:stretch/>
        </p:blipFill>
        <p:spPr>
          <a:xfrm>
            <a:off x="1258920" y="260280"/>
            <a:ext cx="72136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3360600" y="639720"/>
            <a:ext cx="2506680" cy="6032520"/>
          </a:xfrm>
          <a:prstGeom prst="rect">
            <a:avLst/>
          </a:prstGeom>
          <a:ln w="0">
            <a:noFill/>
          </a:ln>
        </p:spPr>
      </p:pic>
      <p:sp>
        <p:nvSpPr>
          <p:cNvPr id="581" name="Rounded Rectangular Callout 3"/>
          <p:cNvSpPr/>
          <p:nvPr/>
        </p:nvSpPr>
        <p:spPr>
          <a:xfrm>
            <a:off x="1403280" y="684360"/>
            <a:ext cx="1584360" cy="576000"/>
          </a:xfrm>
          <a:prstGeom prst="wedgeRoundRectCallout">
            <a:avLst>
              <a:gd name="adj1" fmla="val 90305"/>
              <a:gd name="adj2" fmla="val 54981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Microphone  and speaker volume controls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Rounded Rectangular Callout 5"/>
          <p:cNvSpPr/>
          <p:nvPr/>
        </p:nvSpPr>
        <p:spPr>
          <a:xfrm>
            <a:off x="1042920" y="1346040"/>
            <a:ext cx="1944720" cy="841680"/>
          </a:xfrm>
          <a:prstGeom prst="wedgeRoundRectCallout">
            <a:avLst>
              <a:gd name="adj1" fmla="val 96333"/>
              <a:gd name="adj2" fmla="val -33592"/>
              <a:gd name="adj3" fmla="val 16667"/>
            </a:avLst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Microphone, SINGLE click to talk, then SINGLE click again when finishe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Rounded Rectangular Callout 6"/>
          <p:cNvSpPr/>
          <p:nvPr/>
        </p:nvSpPr>
        <p:spPr>
          <a:xfrm>
            <a:off x="6156360" y="200160"/>
            <a:ext cx="1295280" cy="301320"/>
          </a:xfrm>
          <a:prstGeom prst="wedgeRoundRectCallout">
            <a:avLst>
              <a:gd name="adj1" fmla="val -108087"/>
              <a:gd name="adj2" fmla="val 250138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Audio Wizar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Rounded Rectangular Callout 7"/>
          <p:cNvSpPr/>
          <p:nvPr/>
        </p:nvSpPr>
        <p:spPr>
          <a:xfrm>
            <a:off x="6227640" y="1380960"/>
            <a:ext cx="1297080" cy="289080"/>
          </a:xfrm>
          <a:prstGeom prst="wedgeRoundRectCallout">
            <a:avLst>
              <a:gd name="adj1" fmla="val -111800"/>
              <a:gd name="adj2" fmla="val 2763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Video Preview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Rounded Rectangular Callout 8"/>
          <p:cNvSpPr/>
          <p:nvPr/>
        </p:nvSpPr>
        <p:spPr>
          <a:xfrm>
            <a:off x="6227640" y="836640"/>
            <a:ext cx="1297080" cy="453960"/>
          </a:xfrm>
          <a:prstGeom prst="wedgeRoundRectCallout">
            <a:avLst>
              <a:gd name="adj1" fmla="val -102773"/>
              <a:gd name="adj2" fmla="val 21314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Audio &amp; Video settings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Rounded Rectangular Callout 11"/>
          <p:cNvSpPr/>
          <p:nvPr/>
        </p:nvSpPr>
        <p:spPr>
          <a:xfrm>
            <a:off x="2050920" y="209520"/>
            <a:ext cx="1873440" cy="287280"/>
          </a:xfrm>
          <a:prstGeom prst="wedgeRoundRectCallout">
            <a:avLst>
              <a:gd name="adj1" fmla="val 39504"/>
              <a:gd name="adj2" fmla="val 265925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Expand /Contract Panel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Rounded Rectangular Callout 12"/>
          <p:cNvSpPr/>
          <p:nvPr/>
        </p:nvSpPr>
        <p:spPr>
          <a:xfrm>
            <a:off x="1787400" y="3048120"/>
            <a:ext cx="1311480" cy="431640"/>
          </a:xfrm>
          <a:prstGeom prst="wedgeRoundRectCallout">
            <a:avLst>
              <a:gd name="adj1" fmla="val 128828"/>
              <a:gd name="adj2" fmla="val -18781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Step away from the session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Rounded Rectangular Callout 13"/>
          <p:cNvSpPr/>
          <p:nvPr/>
        </p:nvSpPr>
        <p:spPr>
          <a:xfrm>
            <a:off x="1442880" y="2370240"/>
            <a:ext cx="1305000" cy="482400"/>
          </a:xfrm>
          <a:prstGeom prst="wedgeRoundRectCallout">
            <a:avLst>
              <a:gd name="adj1" fmla="val 123319"/>
              <a:gd name="adj2" fmla="val -38476"/>
              <a:gd name="adj3" fmla="val 16667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Smileys &amp; Applaus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Rounded Rectangular Callout 14"/>
          <p:cNvSpPr/>
          <p:nvPr/>
        </p:nvSpPr>
        <p:spPr>
          <a:xfrm>
            <a:off x="6246720" y="1766880"/>
            <a:ext cx="2070360" cy="438120"/>
          </a:xfrm>
          <a:prstGeom prst="wedgeRoundRectCallout">
            <a:avLst>
              <a:gd name="adj1" fmla="val -84555"/>
              <a:gd name="adj2" fmla="val -34583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Global Participant  permissions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4614840" y="10303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TextBox 16"/>
          <p:cNvSpPr/>
          <p:nvPr/>
        </p:nvSpPr>
        <p:spPr>
          <a:xfrm>
            <a:off x="6372360" y="4724280"/>
            <a:ext cx="1296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** </a:t>
            </a: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re ‘handles’ for dragging these panels to the desktop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TextBox 17"/>
          <p:cNvSpPr/>
          <p:nvPr/>
        </p:nvSpPr>
        <p:spPr>
          <a:xfrm>
            <a:off x="4614840" y="1684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TextBox 18"/>
          <p:cNvSpPr/>
          <p:nvPr/>
        </p:nvSpPr>
        <p:spPr>
          <a:xfrm>
            <a:off x="4716360" y="38926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Rounded Rectangular Callout 19"/>
          <p:cNvSpPr/>
          <p:nvPr/>
        </p:nvSpPr>
        <p:spPr>
          <a:xfrm>
            <a:off x="6227640" y="2343240"/>
            <a:ext cx="1278000" cy="293760"/>
          </a:xfrm>
          <a:prstGeom prst="wedgeRoundRectCallout">
            <a:avLst>
              <a:gd name="adj1" fmla="val -174013"/>
              <a:gd name="adj2" fmla="val -26412"/>
              <a:gd name="adj3" fmla="val 16667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Rounded Rectangular Callout 20"/>
          <p:cNvSpPr/>
          <p:nvPr/>
        </p:nvSpPr>
        <p:spPr>
          <a:xfrm>
            <a:off x="3360600" y="3230640"/>
            <a:ext cx="1571760" cy="425520"/>
          </a:xfrm>
          <a:prstGeom prst="wedgeRoundRectCallout">
            <a:avLst>
              <a:gd name="adj1" fmla="val 12250"/>
              <a:gd name="adj2" fmla="val -235175"/>
              <a:gd name="adj3" fmla="val 16667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Raise / </a:t>
            </a:r>
            <a:r>
              <a:rPr b="1" lang="en-AU" sz="1200" spc="-1" strike="noStrike">
                <a:solidFill>
                  <a:srgbClr val="000000"/>
                </a:solidFill>
                <a:latin typeface="Tahoma"/>
                <a:ea typeface="Tahoma"/>
              </a:rPr>
              <a:t>Lower</a:t>
            </a: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 Han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Rounded Rectangular Callout 23"/>
          <p:cNvSpPr/>
          <p:nvPr/>
        </p:nvSpPr>
        <p:spPr>
          <a:xfrm>
            <a:off x="6240600" y="2781360"/>
            <a:ext cx="2076480" cy="698400"/>
          </a:xfrm>
          <a:prstGeom prst="wedgeRoundRectCallout">
            <a:avLst>
              <a:gd name="adj1" fmla="val -95837"/>
              <a:gd name="adj2" fmla="val -43837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Click here (or right click) to alter participant permissions </a:t>
            </a:r>
            <a:br>
              <a:rPr sz="1100"/>
            </a:b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or your profile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Rounded Rectangular Callout 24"/>
          <p:cNvSpPr/>
          <p:nvPr/>
        </p:nvSpPr>
        <p:spPr>
          <a:xfrm>
            <a:off x="1187280" y="5186520"/>
            <a:ext cx="1903680" cy="690480"/>
          </a:xfrm>
          <a:prstGeom prst="wedgeRoundRectCallout">
            <a:avLst>
              <a:gd name="adj1" fmla="val 85430"/>
              <a:gd name="adj2" fmla="val 59560"/>
              <a:gd name="adj3" fmla="val 16667"/>
            </a:avLst>
          </a:prstGeom>
          <a:solidFill>
            <a:srgbClr val="99ff9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Gill Sans MT"/>
              </a:rPr>
              <a:t>Type your chat message here then push the ‘Enter ‘ key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Rounded Rectangular Callout 25"/>
          <p:cNvSpPr/>
          <p:nvPr/>
        </p:nvSpPr>
        <p:spPr>
          <a:xfrm>
            <a:off x="1617840" y="6021360"/>
            <a:ext cx="1473120" cy="503280"/>
          </a:xfrm>
          <a:prstGeom prst="wedgeRoundRectCallout">
            <a:avLst>
              <a:gd name="adj1" fmla="val 90958"/>
              <a:gd name="adj2" fmla="val 6189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Who your message goes to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Rounded Rectangular Callout 26"/>
          <p:cNvSpPr/>
          <p:nvPr/>
        </p:nvSpPr>
        <p:spPr>
          <a:xfrm>
            <a:off x="6246720" y="3656160"/>
            <a:ext cx="1278000" cy="293400"/>
          </a:xfrm>
          <a:prstGeom prst="wedgeRoundRectCallout">
            <a:avLst>
              <a:gd name="adj1" fmla="val -127865"/>
              <a:gd name="adj2" fmla="val -104055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Participants panel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Rounded Rectangular Callout 27"/>
          <p:cNvSpPr/>
          <p:nvPr/>
        </p:nvSpPr>
        <p:spPr>
          <a:xfrm>
            <a:off x="4284720" y="212760"/>
            <a:ext cx="1295280" cy="288720"/>
          </a:xfrm>
          <a:prstGeom prst="wedgeRoundRectCallout">
            <a:avLst>
              <a:gd name="adj1" fmla="val 518"/>
              <a:gd name="adj2" fmla="val 391240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Transmit Video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Rounded Rectangular Callout 29"/>
          <p:cNvSpPr/>
          <p:nvPr/>
        </p:nvSpPr>
        <p:spPr>
          <a:xfrm>
            <a:off x="6246720" y="4114800"/>
            <a:ext cx="1278000" cy="293760"/>
          </a:xfrm>
          <a:prstGeom prst="wedgeRoundRectCallout">
            <a:avLst>
              <a:gd name="adj1" fmla="val -102439"/>
              <a:gd name="adj2" fmla="val -79537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Chat settings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Rounded Rectangular Callout 30"/>
          <p:cNvSpPr/>
          <p:nvPr/>
        </p:nvSpPr>
        <p:spPr>
          <a:xfrm>
            <a:off x="1692360" y="4581360"/>
            <a:ext cx="1295280" cy="395280"/>
          </a:xfrm>
          <a:prstGeom prst="wedgeRoundRectCallout">
            <a:avLst>
              <a:gd name="adj1" fmla="val 141703"/>
              <a:gd name="adj2" fmla="val 15300"/>
              <a:gd name="adj3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Gill Sans MT"/>
              </a:rPr>
              <a:t>Chat panel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TextBox 15"/>
          <p:cNvSpPr/>
          <p:nvPr/>
        </p:nvSpPr>
        <p:spPr>
          <a:xfrm>
            <a:off x="6151680" y="589608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Blackboard Collaborate</a:t>
            </a:r>
            <a:br>
              <a:rPr sz="1800"/>
            </a:b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7" descr="C:\Users\Keith\AppData\Local\Microsoft\Windows\Temporary Internet Files\Content.IE5\BHE8NFCV\MC900013464[1].wmf"/>
          <p:cNvPicPr/>
          <p:nvPr/>
        </p:nvPicPr>
        <p:blipFill>
          <a:blip r:embed="rId1"/>
          <a:stretch/>
        </p:blipFill>
        <p:spPr>
          <a:xfrm rot="168000">
            <a:off x="1393920" y="399960"/>
            <a:ext cx="6197400" cy="563724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0160" y="115920"/>
            <a:ext cx="4970520" cy="100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20e04"/>
                </a:solidFill>
                <a:latin typeface="Gill Sans MT"/>
              </a:rPr>
              <a:t>Drag an icon to your loc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603360" y="621036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20e04"/>
                </a:solidFill>
                <a:latin typeface="Gill Sans MT"/>
              </a:rPr>
              <a:t>Then type your location &amp; a greeting in the Chat Windo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hunk 1 of your sho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Bullet poi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Keep them short and si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They should SUMMARIZE your key poi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pice it up with a simple graphic that is relevant to the point you are mak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Keep your slides consistent. In the slide sorter pane, right click the slide and select ‘duplicate slide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9" name="Picture 5" descr="http://mondaybynoon.com/images/logo-google-docs.png"/>
          <p:cNvPicPr/>
          <p:nvPr/>
        </p:nvPicPr>
        <p:blipFill>
          <a:blip r:embed="rId1"/>
          <a:stretch/>
        </p:blipFill>
        <p:spPr>
          <a:xfrm>
            <a:off x="7236000" y="260280"/>
            <a:ext cx="161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5" descr="http://cloudtimes.org/wp-content/uploads/2012/04/google-drive.jpeg"/>
          <p:cNvPicPr/>
          <p:nvPr/>
        </p:nvPicPr>
        <p:blipFill>
          <a:blip r:embed="rId1"/>
          <a:stretch/>
        </p:blipFill>
        <p:spPr>
          <a:xfrm>
            <a:off x="6259680" y="3225960"/>
            <a:ext cx="2619360" cy="2619360"/>
          </a:xfrm>
          <a:prstGeom prst="rect">
            <a:avLst/>
          </a:prstGeom>
          <a:ln w="0">
            <a:noFill/>
          </a:ln>
        </p:spPr>
      </p:pic>
      <p:sp>
        <p:nvSpPr>
          <p:cNvPr id="611" name="laptop"/>
          <p:cNvSpPr/>
          <p:nvPr/>
        </p:nvSpPr>
        <p:spPr>
          <a:xfrm>
            <a:off x="971640" y="4005360"/>
            <a:ext cx="3600360" cy="2663640"/>
          </a:xfrm>
          <a:custGeom>
            <a:avLst/>
            <a:gdLst>
              <a:gd name="textAreaLeft" fmla="*/ 740880 w 3600360"/>
              <a:gd name="textAreaRight" fmla="*/ 2885400 w 3600360"/>
              <a:gd name="textAreaTop" fmla="*/ 228960 h 2663640"/>
              <a:gd name="textAreaBottom" fmla="*/ 1519560 h 266364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39290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hunk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434960" y="1331640"/>
            <a:ext cx="749952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Below is an easily made graph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Use the KISS principle (Keep It Simple Stupi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Use one to reinforce your wo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Left-Right Arrow 9"/>
          <p:cNvSpPr/>
          <p:nvPr/>
        </p:nvSpPr>
        <p:spPr>
          <a:xfrm rot="21066600">
            <a:off x="3457440" y="4724280"/>
            <a:ext cx="2770200" cy="61272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c58d0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TextBox 10"/>
          <p:cNvSpPr/>
          <p:nvPr/>
        </p:nvSpPr>
        <p:spPr>
          <a:xfrm rot="21035400">
            <a:off x="4103280" y="428220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Synchroni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2"/>
          <a:stretch/>
        </p:blipFill>
        <p:spPr>
          <a:xfrm>
            <a:off x="2085840" y="4205160"/>
            <a:ext cx="1371600" cy="2071800"/>
          </a:xfrm>
          <a:prstGeom prst="rect">
            <a:avLst/>
          </a:prstGeom>
          <a:ln w="0">
            <a:noFill/>
          </a:ln>
        </p:spPr>
      </p:pic>
      <p:sp>
        <p:nvSpPr>
          <p:cNvPr id="617" name="TextBox 11"/>
          <p:cNvSpPr/>
          <p:nvPr/>
        </p:nvSpPr>
        <p:spPr>
          <a:xfrm>
            <a:off x="5724360" y="609912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Any Internet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Left-Right Arrow 14"/>
          <p:cNvSpPr/>
          <p:nvPr/>
        </p:nvSpPr>
        <p:spPr>
          <a:xfrm rot="16969800">
            <a:off x="6737040" y="5427720"/>
            <a:ext cx="847440" cy="50472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9d77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9" name="Picture 7" descr="https://encrypted-tbn2.gstatic.com/images?q=tbn:ANd9GcTGBpe7QHrYm2yYrdb8GvfOii70ppdMBqVYbzenE10NkvkT29WT"/>
          <p:cNvPicPr/>
          <p:nvPr/>
        </p:nvPicPr>
        <p:blipFill>
          <a:blip r:embed="rId3"/>
          <a:stretch/>
        </p:blipFill>
        <p:spPr>
          <a:xfrm>
            <a:off x="7331040" y="26028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98360" y="260280"/>
            <a:ext cx="8945640" cy="6292800"/>
          </a:xfrm>
          <a:prstGeom prst="rect">
            <a:avLst/>
          </a:prstGeom>
          <a:ln w="0">
            <a:noFill/>
          </a:ln>
        </p:spPr>
      </p:pic>
      <p:sp>
        <p:nvSpPr>
          <p:cNvPr id="621" name="Oval 4"/>
          <p:cNvSpPr/>
          <p:nvPr/>
        </p:nvSpPr>
        <p:spPr>
          <a:xfrm>
            <a:off x="198360" y="3946680"/>
            <a:ext cx="2502000" cy="57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499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br>
              <a:rPr sz="5400"/>
            </a:br>
            <a:r>
              <a:rPr b="1" lang="en-AU" sz="5400" spc="-1" strike="noStrike">
                <a:solidFill>
                  <a:srgbClr val="572314"/>
                </a:solidFill>
                <a:latin typeface="Gill Sans MT"/>
              </a:rPr>
              <a:t>Comments?</a:t>
            </a:r>
            <a:br>
              <a:rPr sz="5400"/>
            </a:br>
            <a:r>
              <a:rPr b="1" lang="en-AU" sz="5400" spc="-1" strike="noStrike">
                <a:solidFill>
                  <a:srgbClr val="572314"/>
                </a:solidFill>
                <a:latin typeface="Gill Sans MT"/>
              </a:rPr>
              <a:t>Future Sessions?</a:t>
            </a:r>
            <a:br>
              <a:rPr sz="5400"/>
            </a:br>
            <a:r>
              <a:rPr b="1" lang="en-AU" sz="5400" spc="-1" strike="noStrike">
                <a:solidFill>
                  <a:srgbClr val="572314"/>
                </a:solidFill>
                <a:latin typeface="Gill Sans MT"/>
              </a:rPr>
              <a:t>Moderators?</a:t>
            </a:r>
            <a:br>
              <a:rPr sz="5400"/>
            </a:br>
            <a:r>
              <a:rPr b="1" lang="en-AU" sz="5400" spc="-1" strike="noStrike">
                <a:solidFill>
                  <a:srgbClr val="572314"/>
                </a:solidFill>
                <a:latin typeface="Gill Sans MT"/>
              </a:rPr>
              <a:t>Bank Accounts?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324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300" spc="-1" strike="noStrike">
                <a:solidFill>
                  <a:srgbClr val="572314"/>
                </a:solidFill>
                <a:latin typeface="Gill Sans MT"/>
              </a:rPr>
              <a:t>Whiteboard To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rcRect l="19987" t="3380" r="19987" b="3156"/>
          <a:stretch/>
        </p:blipFill>
        <p:spPr>
          <a:xfrm>
            <a:off x="304920" y="731880"/>
            <a:ext cx="685800" cy="5486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2"/>
          <a:stretch/>
        </p:blipFill>
        <p:spPr>
          <a:xfrm>
            <a:off x="1905120" y="4606920"/>
            <a:ext cx="6676920" cy="2098800"/>
          </a:xfrm>
          <a:prstGeom prst="rect">
            <a:avLst/>
          </a:prstGeom>
          <a:ln w="0">
            <a:noFill/>
          </a:ln>
        </p:spPr>
      </p:pic>
      <p:cxnSp>
        <p:nvCxnSpPr>
          <p:cNvPr id="626" name="Straight Arrow Connector 4"/>
          <p:cNvCxnSpPr/>
          <p:nvPr/>
        </p:nvCxnSpPr>
        <p:spPr>
          <a:xfrm flipV="1">
            <a:off x="838080" y="5409720"/>
            <a:ext cx="1067760" cy="246960"/>
          </a:xfrm>
          <a:prstGeom prst="straightConnector1">
            <a:avLst/>
          </a:prstGeom>
          <a:ln w="57240">
            <a:solidFill>
              <a:srgbClr val="3891a7"/>
            </a:solidFill>
            <a:miter/>
            <a:tailEnd len="med" type="triangle" w="med"/>
          </a:ln>
        </p:spPr>
      </p:cxnSp>
      <p:sp>
        <p:nvSpPr>
          <p:cNvPr id="627" name="Rounded Rectangular Callout 5"/>
          <p:cNvSpPr/>
          <p:nvPr/>
        </p:nvSpPr>
        <p:spPr>
          <a:xfrm>
            <a:off x="1905120" y="1096920"/>
            <a:ext cx="3352680" cy="609480"/>
          </a:xfrm>
          <a:prstGeom prst="wedgeRoundRectCallout">
            <a:avLst>
              <a:gd name="adj1" fmla="val -78592"/>
              <a:gd name="adj2" fmla="val -5907"/>
              <a:gd name="adj3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Pointer Tool (Defaul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Rounded Rectangular Callout 9"/>
          <p:cNvSpPr/>
          <p:nvPr/>
        </p:nvSpPr>
        <p:spPr>
          <a:xfrm>
            <a:off x="1965240" y="3657600"/>
            <a:ext cx="2470320" cy="792000"/>
          </a:xfrm>
          <a:prstGeom prst="wedgeRoundRectCallout">
            <a:avLst>
              <a:gd name="adj1" fmla="val -94245"/>
              <a:gd name="adj2" fmla="val -50333"/>
              <a:gd name="adj3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riangle indicates more t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Rounded Rectangular Callout 10"/>
          <p:cNvSpPr/>
          <p:nvPr/>
        </p:nvSpPr>
        <p:spPr>
          <a:xfrm>
            <a:off x="5288040" y="3521160"/>
            <a:ext cx="3019320" cy="928440"/>
          </a:xfrm>
          <a:prstGeom prst="wedgeRoundRectCallout">
            <a:avLst>
              <a:gd name="adj1" fmla="val -37472"/>
              <a:gd name="adj2" fmla="val 126782"/>
              <a:gd name="adj3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abs group clipart. You can add your ow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Title 1"/>
          <p:cNvSpPr/>
          <p:nvPr/>
        </p:nvSpPr>
        <p:spPr>
          <a:xfrm>
            <a:off x="2362320" y="-1371600"/>
            <a:ext cx="6324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Gill Sans MT"/>
              </a:rPr>
              <a:t>Whiteboard Too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Rounded Rectangular Callout 12"/>
          <p:cNvSpPr/>
          <p:nvPr/>
        </p:nvSpPr>
        <p:spPr>
          <a:xfrm>
            <a:off x="6095880" y="1173240"/>
            <a:ext cx="2819520" cy="731880"/>
          </a:xfrm>
          <a:prstGeom prst="wedgeRoundRectCallout">
            <a:avLst>
              <a:gd name="adj1" fmla="val -17282"/>
              <a:gd name="adj2" fmla="val 8750"/>
              <a:gd name="adj3" fmla="val 16667"/>
            </a:avLst>
          </a:prstGeom>
          <a:solidFill>
            <a:srgbClr val="b0bad7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Hover for a Tool T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3"/>
          <a:stretch/>
        </p:blipFill>
        <p:spPr>
          <a:xfrm>
            <a:off x="863640" y="2743200"/>
            <a:ext cx="507960" cy="492120"/>
          </a:xfrm>
          <a:prstGeom prst="rect">
            <a:avLst/>
          </a:prstGeom>
          <a:ln w="0">
            <a:noFill/>
          </a:ln>
        </p:spPr>
      </p:pic>
      <p:sp>
        <p:nvSpPr>
          <p:cNvPr id="633" name="Rounded Rectangular Callout 8"/>
          <p:cNvSpPr/>
          <p:nvPr/>
        </p:nvSpPr>
        <p:spPr>
          <a:xfrm>
            <a:off x="1951200" y="1905120"/>
            <a:ext cx="3840120" cy="511200"/>
          </a:xfrm>
          <a:prstGeom prst="wedgeRoundRectCallout">
            <a:avLst>
              <a:gd name="adj1" fmla="val -81819"/>
              <a:gd name="adj2" fmla="val 124203"/>
              <a:gd name="adj3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ext Box. Just keep typ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Rounded Rectangular Callout 14"/>
          <p:cNvSpPr/>
          <p:nvPr/>
        </p:nvSpPr>
        <p:spPr>
          <a:xfrm>
            <a:off x="1965240" y="2751120"/>
            <a:ext cx="4527720" cy="509760"/>
          </a:xfrm>
          <a:prstGeom prst="wedgeRoundRectCallout">
            <a:avLst>
              <a:gd name="adj1" fmla="val -64912"/>
              <a:gd name="adj2" fmla="val 1814"/>
              <a:gd name="adj3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ext Tool. Push Enter for new 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7:54:40Z</dcterms:created>
  <dc:creator>Keith</dc:creator>
  <dc:description/>
  <dc:language>en-US</dc:language>
  <cp:lastModifiedBy>Keith</cp:lastModifiedBy>
  <dcterms:modified xsi:type="dcterms:W3CDTF">2013-01-20T12:01:40Z</dcterms:modified>
  <cp:revision>97</cp:revision>
  <dc:subject/>
  <dc:title>A One Eyed Google Fan  Reveals All</dc:title>
</cp:coreProperties>
</file>